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37E-B69A-4202-A383-E28B5758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B5F-D154-4FB4-A700-B5888DE4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0B1-E81C-47C9-A1F9-5DD10D97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A2C-C02B-4FE7-8927-5271A8C5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D02-3448-43C8-9324-1E4E3F6F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F3D-D986-4A6A-AB30-6D1EEBDF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30B-010C-4E9D-B095-B579B80E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BE2-B0A9-4864-8997-2D347EE9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9DD-0825-4A5B-A128-6FBD4EBB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2B3-F5C2-4DFF-B8B1-4E52D882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FFC-74DF-49C1-9726-2ABCA39E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3ED-4E40-4591-AA9A-85F45A30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246D-4401-4CD5-B06F-2A7F92E456FE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www.gay-poppers.com/shopping/sc_images/poppers.gif&amp;imgrefurl=http://www.gay-poppers.com/shopping/store.php&amp;usg=__o7XpD0IG1xi9q881DXfEjxRTYJA=&amp;h=415&amp;w=1288&amp;sz=316&amp;hl=ro&amp;start=13&amp;zoom=1&amp;tbnid=LYMH08egOP7UDM:&amp;tbnh=48&amp;tbnw=150&amp;ei=Nqt8TaOrFoOb8QOcquy7BA&amp;prev=/images%3Fq%3Dpoppers%26hl%3Dro%26biw%3D1020%26bih%3D569%26gbv%3D2%26tbs%3Disch:1&amp;itbs=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a.gov.ro/rom/tipuridroguri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a.gov.ro/rom/tipuridroguri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na.gov.ro/rom/tipuridroguri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na.gov.ro/rom/tipuridroguri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na.gov.ro/rom/tipuridroguri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Clasificarea drogurilor</a:t>
            </a:r>
            <a:br>
              <a:rPr sz="3600"/>
            </a:br>
            <a:r>
              <a:rPr b="0" lang="ro-RO" sz="1800" spc="-1" strike="noStrike">
                <a:solidFill>
                  <a:srgbClr val="ff0000"/>
                </a:solidFill>
                <a:latin typeface="Arial"/>
              </a:rPr>
              <a:t>d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ro-RO" sz="1800" spc="-1" strike="noStrike">
                <a:solidFill>
                  <a:srgbClr val="ff0000"/>
                </a:solidFill>
                <a:latin typeface="Arial"/>
              </a:rPr>
              <a:t>ă de Agenţia Naţională Antid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Haşişul şi marih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Opiacee (hero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Halucino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Amfet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Sedative şi somnif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Coca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C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Ecst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Droguri de petrecere (party dru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Metad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Solvenţi </a:t>
            </a:r>
            <a:br>
              <a:rPr sz="1800"/>
            </a:br>
            <a:r>
              <a:rPr b="1" lang="ro-RO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g_hi" descr="ANd9GcSRS9aLL1iqrOtdQy8muwQM2aNY-DLBpO21PhumvSW8g6gtjH4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4221000"/>
            <a:ext cx="3745080" cy="2040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Droguri de petrecere (party drug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7404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t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tahicar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senzaţie de căldură a piel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hipox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posibil col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inconştienţ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iritarea pielii şi a mucoas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iritarea mucoasei naz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aritmii cardi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impotenţ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tipuridroguri_45"/>
          <p:cNvPicPr/>
          <p:nvPr/>
        </p:nvPicPr>
        <p:blipFill>
          <a:blip r:embed="rId1"/>
          <a:stretch/>
        </p:blipFill>
        <p:spPr>
          <a:xfrm>
            <a:off x="539640" y="1341360"/>
            <a:ext cx="7920000" cy="4751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Metado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efect seda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transpiratii profu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euf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mi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rar tahicar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hipoten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constip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depresie respirat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depresia respiratorie se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hipotensiune marc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tahicar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hiperter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tulburari de constienta pana la c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g_hi" descr="ANd9GcSwSZv8z3KJN6aXMV9XlCcW_2788nw59Lgh1BCguqWoCDhz7B91"/>
          <p:cNvPicPr/>
          <p:nvPr/>
        </p:nvPicPr>
        <p:blipFill>
          <a:blip r:embed="rId1"/>
          <a:stretch/>
        </p:blipFill>
        <p:spPr>
          <a:xfrm>
            <a:off x="539640" y="1413000"/>
            <a:ext cx="7920000" cy="4680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Solven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leziuni hepa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inflamaţii ale nerv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nevralgii ale feţ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uferinţe cardiace condiţionate ner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tări confu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reacţii de hiperexcitaţ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anxietate şi pani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arsuri şi combustii (arsuri chimice) ale căilor respirat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aralizia respiraţ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tulburări central nervoase gr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delirium tre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topul respi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olapsul cardio-cir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tipuridroguri_02m"/>
          <p:cNvPicPr/>
          <p:nvPr/>
        </p:nvPicPr>
        <p:blipFill>
          <a:blip r:embed="rId1"/>
          <a:stretch/>
        </p:blipFill>
        <p:spPr>
          <a:xfrm>
            <a:off x="4500720" y="3141720"/>
            <a:ext cx="4319280" cy="287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Haşişul şi marihu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creşterea frecvenţei puls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odificarea fluxului sanguin 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căderea tensiunsii art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uscarea mucoasei nazale ş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arin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vom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dia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enzaţie imperioasă de fo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euf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tare de agitaţie, însoţită ocaz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 stare de tensiune şi anxietate, stări ce vor fi urmate în curând de o senzaţie plăcută de siguranţă şi ocro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odificări hepa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odificări pulmo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odificări psih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tipuridroguri_18m"/>
          <p:cNvPicPr/>
          <p:nvPr/>
        </p:nvPicPr>
        <p:blipFill>
          <a:blip r:embed="rId1"/>
          <a:stretch/>
        </p:blipFill>
        <p:spPr>
          <a:xfrm>
            <a:off x="468360" y="3789360"/>
            <a:ext cx="4010040" cy="2519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Opiacee (heroina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uternic euforizan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estompează activitatea intelectuală a omului şi influenţează starea sa psihică în sensul eliminării fricii şi proastei dispozi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abcese ale extremităţi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carii dentare şi leziuni asoc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reducerea masei muscu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odificări trofice şi leziuni la nivelul picioare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cab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ulceraţii şi flebite (inflamaţii ale venelor) la nivelul membrelor inferioare- bronşite purul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neumon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boli cu transmitere sexua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crize psihiatrice/comportament suicid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infecţia HI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tuberculo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hepatita virală A/B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ipuridroguri_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330800"/>
            <a:ext cx="3095640" cy="1834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Halucinogen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038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stări de anxietate masiv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persoana afectată se comportă ca un bolnav psi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tentativele de suicid - de exemplu săritura pe geam, persoana drogată având convingerea că poate zb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stări anxioase, de paranoia şi halucinaţii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depresii şi anxi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aud voci bizare sau muzică str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unii se cred a fi dracul în persoan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accese de autoagresiune neinhibată ce pot merge până la automuti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rupturi cromosomiale la nivel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malformaţii congenitale, la copiii mamelor care au consumat LSD în timpul sarci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tipuridroguri_32m"/>
          <p:cNvPicPr/>
          <p:nvPr/>
        </p:nvPicPr>
        <p:blipFill>
          <a:blip r:embed="rId1"/>
          <a:stretch/>
        </p:blipFill>
        <p:spPr>
          <a:xfrm>
            <a:off x="4970520" y="4292640"/>
            <a:ext cx="3417840" cy="2265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Amfe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uprimă senzaţia de foame, determinând reducerea aportului ali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nevoia de somn dis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enzaţia de oboseală este suprima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dispoziţia persoanei este constant negativă şi tensiona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dependentul se simte ameninţat şi urmărit de orice persoană necunoscută, are halucinaţii auditive şi este complet deru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epuizarea generală a organism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tipuridroguri_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076640"/>
            <a:ext cx="345600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Sedative şi somnifer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lafonare în plan afectiv, apatie, lipsa trăirilor emoţ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lăbirea creativităţ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incapacitatea rezolvării conflicte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ierderea simţului răspunde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comportament social neave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ai rar: manii, accese de furie, halucinaţii, psiho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cimentarea unor relaţii sociale nesatisfăcăto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osibil, amplificarea stărilor depre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98064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insomnie în primele ore ale dimine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creşterea în greu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ierderea libido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tare generală de slăbic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buimăce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dezin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ahmure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tipuridroguri_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046400"/>
            <a:ext cx="3672000" cy="2262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Coca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stare generală de euf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senzaţia de fericire supraomeneas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stare de mulţumire supranatur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sentiment covârşitor de uniune cu lum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dilatarea pupilelor, ochii străluc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tahicardie (puls acceler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roşirea feţei, transpira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hiperventilaţ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creşterea temperaturii şi creşterea tensiunii art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excitaţia nervoasă centrală poate duce la apariţia unor crize convulsive şi a unor mişcări primitive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0" y="141264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alterări ale caracte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leziuni cerebrale grave ce duc la demenţ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în stadiul final apare o dezintegrare fizică tot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halucinaţii tac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tipuridroguri_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292640"/>
            <a:ext cx="4105440" cy="2293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C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3610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senzaţia creşterii capacităţii de concent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pneumon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hipertensiune arteria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lipsa apetitului (anorexi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usturimea pielii (pruri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stare de nelinişte şi confu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6480" y="1412640"/>
            <a:ext cx="3827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manifestări paranoide şi schizofre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stare de epuizare tota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vasoconstricţie (consecinţa: afecţiuni cardi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hipertensiune arterială (consecinţa: accidentul vascular 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leziuni pulmo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tipuridroguri_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413000"/>
            <a:ext cx="8136000" cy="4752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Ecstasy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dilatarea pupile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creşterea frecvenţei cardicae/tensiunii arteri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bronhodilataţ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încordarea muşchilor mandibul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greaţ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uscăciunea gu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transpiraţ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creşterea temepraturii corp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nevoia de a ur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bruxism (scrâşnirea dinţilo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dureri de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sistemul natural de alarmă al omului este abo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deces prin hipertermie şi deshidratarea organismului- hiperterm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slăbiciune muscular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trombembo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insuficienţă renală acut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insuficienţă hepatică toxic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tulburări de respiraţ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tulburări cardiace până la col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1:57:33Z</dcterms:created>
  <dc:creator>Luiza</dc:creator>
  <dc:description/>
  <dc:language>en-US</dc:language>
  <cp:lastModifiedBy>Luiza</cp:lastModifiedBy>
  <dcterms:modified xsi:type="dcterms:W3CDTF">2012-03-28T15:52:57Z</dcterms:modified>
  <cp:revision>9</cp:revision>
  <dc:subject/>
  <dc:title>Haşişul şi marihuna </dc:title>
</cp:coreProperties>
</file>